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63C-42FF-4311-BCB6-8E3F55F4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792-25BB-473F-9FD7-8B63A06A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461-325E-4D0B-9B9A-176B6B22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190-E421-4B5E-91DC-0F7830C9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AAFB-60ED-4644-B6AD-B76C9347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5B11-1B78-4B59-A7F3-0D3B8F1F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4240-C8A6-4C48-992A-07CD0491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3150-EE15-4897-AF79-B7BEC4C3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77FE-2098-4EC6-88BD-EB52B084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FAD7-3B05-4EDE-9FA2-21782443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4830-6F8E-4450-BF32-68A380D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96F-226A-4F1C-B5AD-7F0F3C04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EA9-A708-4C6D-842C-ADE4D3B2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0F52-0498-4C8F-AE9C-49E2D56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DAB-D5D2-4606-8F4C-03E9B980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8932-2C90-4CA6-B1B2-5163A203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ACB9-2900-46AA-8FBE-A34E0D3F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876-9C2D-4E2A-9706-EEAB2864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6E9-546D-4046-96BD-81CA12B9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FC3-6ACE-41FF-8579-2DBBEBB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1B4-3920-4D65-9576-4FA56D3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B5B-B452-49AA-A179-C83D232C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2B5-C2E5-43E9-BB63-E809176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85C-87A6-4252-815F-273F1758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9E75-52FD-42E8-8659-ABFF79DBE1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BC4C-AF63-4C78-96CA-EF9D9410ED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rvous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neu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that carry such signals away form the CNS (brain &amp; spinal cor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tor neurons target the following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diac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nd  to secrete a horm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S.A. node of the right at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bundles of nerves that detects blood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stalsis-contraction of the esophag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trin- a hormone released in the stomach to aid in dig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nee-Jerk Reflex: An Examp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swer the following and place into composition boo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 the two subdivisions of the nervous system, and list the nervous system’s three main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the three types of neurons are involved in a simple reflex ar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two examples of environmental stimuli other than those discussed in the t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is a ce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neurons are in your nervous syste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pheral Nervou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 of 2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ory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hysiology of P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es information about an environmental change, or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imul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are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nge in temp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p on the shou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nsory neuron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that carry information about stimuli to the CNS-Central Nervous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 sensory neurons detect a stimuli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on next sl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nsory recepto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stimuli are received by receptors located on the membrane of nerve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g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NS interprets the information from sensory neurons, integration takes place. This step involves neurons located entirely within the CNS (Brain &amp; Spinal Cord) and between gray and whit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that interpret information are called inter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 signals or information transfer to other parts of the body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1:42:28Z</dcterms:created>
  <dc:creator>Dischie</dc:creator>
  <dc:description/>
  <dc:language>en-US</dc:language>
  <cp:lastModifiedBy>user</cp:lastModifiedBy>
  <dcterms:modified xsi:type="dcterms:W3CDTF">2007-02-08T17:00:41Z</dcterms:modified>
  <cp:revision>4</cp:revision>
  <dc:subject/>
  <dc:title>Nervous System</dc:title>
</cp:coreProperties>
</file>